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BC-99A0-4117-8F16-CE912084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EC9-74A4-48B1-B8AF-377544C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970-D56D-4742-ABB0-C4C66C42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870-C70A-4C91-A171-1CAF599C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83E3-D1B1-40EE-AD55-E797CEA2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95A-AFD7-4D64-A6C6-F74BB9F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AB18-29AD-4D05-B99B-034E89BB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A9AD-A9C2-4AEE-AA2E-50B74217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B8B-D8BD-4F21-B9AA-FAC77E56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AFD-A722-4006-A2FB-7672487E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73D-E67F-44DF-886F-30BDBCB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F0B-5F37-4F9B-9843-C21A79A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3449-307D-410F-93A7-FEB3B16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421-1A84-42C0-BD97-6CCC947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53E-F730-4E1A-8F1B-1FF676E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A05B-F654-417F-B4DB-52A470F6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1E6-B028-477A-8574-0E08570F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2DF-757E-4AFA-9448-8619955D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FCB-1BA0-46D2-8357-25FC1BE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C80-DCAB-4C7F-A772-868CB97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7A-8133-4201-9D93-79016FC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F38-669E-4F0C-80B9-88A093A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A64-48E2-46A2-B251-39473B9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042-94F7-40CF-85FA-603C88D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B03C-066E-443C-87A4-BC3B2F6C88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58CD-9995-4422-ABED-3F7646AA4E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subordinateclaus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ammar bla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not express a complete thought and cannot stand alone as a sentenc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hompchomp.com/terms/subordinateclause.h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mma ru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ubordinate claus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s the last word in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of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tive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like a rose in summ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/readings/experien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/ other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ve is a four letter word which has the power to change lives, according to Dr. Phi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ymology (history and use of the wo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ncients believed love came from the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and 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may be beautiful, but it can also be painfu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only one of several emotions we don’t entirely understand scientif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ve is defined a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nd effects of th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ffect of love on teenagers 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toric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3805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the author want the aud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ink or do after seeing or hearing this piece of wri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situatio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go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rou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 and/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udienc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629400" y="5257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whom is this piece of writing addressed?  What bias does this person or group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5800" y="5181480"/>
            <a:ext cx="25909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is the writer or speaker? What opinion does this person hav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828800" y="1219320"/>
            <a:ext cx="5410080" cy="39621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ryl needs to convince her mother of the need for the family to have a cell phone.  Cheryl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t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of the opinion that the cell phone is a necessity.  Her goal, 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o talk her mother into purchasing the phone.  Her mother,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s resisted purchasing for two years but needs to be educated on the low cost, convenience, and usefulness of the phone in emergencies.  Th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n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ulture in which cell phones have become the n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3356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09680" y="1219320"/>
            <a:ext cx="4648320" cy="46479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8098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7816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1430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ummary of our lesson using a subordinat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definition prompts and decide on context, audience, and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hetor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3240000"/>
            <a:ext cx="778356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rt of writing and speaking eff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options for organizing your rhetor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ent what the term is vs. what it is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4572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ote each body paragraph to subdivisions of the term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, an essay on love could be devoted to platonic, religious, romantic, and familial love as long as the ideas support the thesi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focal point of the essay to be a story in support of the thesis but be sure to include several other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emplification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the extended definition by observations, experiences and media support (quotations, movies, readings, and TV show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32:45Z</dcterms:created>
  <dc:creator>Pat Caskie</dc:creator>
  <dc:description/>
  <dc:language>en-US</dc:language>
  <cp:lastModifiedBy>adamscp</cp:lastModifiedBy>
  <dcterms:modified xsi:type="dcterms:W3CDTF">2008-01-31T15:59:01Z</dcterms:modified>
  <cp:revision>9</cp:revision>
  <dc:subject/>
  <dc:title>What is rhetoric?</dc:title>
</cp:coreProperties>
</file>